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F2D4-2E69-48B7-9741-3D07C97B6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22CA-54A4-4077-B0AC-F1D6E1A2D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A7C9-5B15-4098-9846-1C8E17609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C6E1-2EE5-4E40-9A06-2003C6538A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133D-4890-4820-9E30-D71BB372F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B7CD-06DF-40E6-9523-7503C7089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4006-4D28-469E-9D8B-A6553CCF3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CCA8-C252-4889-9878-4866B7180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2D86-DEB0-4AEF-9AC8-0E793A2BF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7882-8F96-49CD-B445-687426C28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2DA6-BD98-423B-98EE-31FC4E0E2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36CD-6531-4EB3-8FCA-1E4183F4B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7D53-2D50-42EA-B4A6-3369ED2551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8275-5CF8-4B7C-B358-0132A9BCC8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  <a:ea typeface="Tahoma"/>
              </a:rPr>
              <a:t>Math CAMPPP 2012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Breakout Ses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2478"/>
                </a:solidFill>
                <a:latin typeface="Tahoma"/>
                <a:ea typeface="Tahoma"/>
              </a:rPr>
              <a:t>Gr. 9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2590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io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back to your scary fraction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might you help this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E68F-773D-4B30-8D9D-8DA8F2C4D7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lope and Fraction Meaning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view the Pancake Probl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fraction meanings do you see in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they connect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74BD-FA4B-46F1-97CB-A1656F11DC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Reflect and Predic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id secondary students respond to the following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2980-2E31-4C03-9A89-5E6A34CCF6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On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n an assignment, Jaime received the following scores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ction A:          Section B:         Total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aime was confused, because using what she knew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ractions, she didn’t think tha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 would you explain this to Jaime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62A9-4F38-4E42-905E-C6C929F31C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2133720" y="2362320"/>
                <a:ext cx="25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4419720" y="23623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5867280" y="2362320"/>
                <a:ext cx="4194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7"/>
              <p:cNvSpPr txBox="1"/>
              <p:nvPr/>
            </p:nvSpPr>
            <p:spPr>
              <a:xfrm>
                <a:off x="4876920" y="3809880"/>
                <a:ext cx="1549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wo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what you know about  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fferent representations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F1FA-0D3D-49BB-9609-B1A13F3DB8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5715000" y="1447920"/>
                <a:ext cx="482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7327800" y="1523880"/>
                <a:ext cx="4572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Three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ive a real life example of a problem where the solution could involve dividing by 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1085-B38C-40F6-B07C-B21871B50C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our: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do you know about          ?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diagrams, numbers, algebra, words etc. to communicate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C092-0CCC-40F9-8031-5F826F316C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5181480" y="1523880"/>
                <a:ext cx="723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ne sentence that  makes sense that includes ALL of  these words and numbers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, fraction, simple, challenging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8AC9-E4DC-43B0-A189-537937E7E4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it Car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ve you noticed /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your lingering wonde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1E9-C3C3-4D64-B9BE-6BDC2D2F0F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ession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will have the opportunity to explore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presentations and meanings of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nections to secondary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lated Gap Clo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with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C544-4E80-4358-AAEF-A0EE27B1B0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up Norm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deas will be listened to carefully and responded to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have a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questions and comments will be presented with the intent to move the collecti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questions are wel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ill engage fully in the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3DC8-3DA8-41EE-962F-A27A956478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cary Stori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story from your personal teaching experience involving student misconceptions about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ner/Outer Circle – share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BA89-4CA1-4A67-8CBB-32944F87A4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Meanings and Connec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ividuall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oose a fraction, and represent it in as many different ways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two problems from secondary math that feature THAT fr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A467-9F46-4387-8B3A-5AB0E195C9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wo people with the same fraction a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are meanings 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ost to curriculum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EE95-4640-43C0-B58D-A35CF889F1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ing GAP Closing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Gap Clos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raction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) Com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2) Adding and Subtract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) Multiply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4) Dividing Fr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roportional Reasoning: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5) Describing and Representing Ratios, Rates and Perc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6) Equivalent Forms of Ratios, Rates and Per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6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0291-4DCC-4394-9A0D-328568A649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Explore, Discuss, Summariz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lor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asons students struggle (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agnostic (Relevant ques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entions (Open Question, Parallel Ta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ummary sheet (chart paper) of key ideas / tips for secondary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C73A-ADED-4157-8CA4-E0084980FF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2b5ca9"/>
                </a:solidFill>
                <a:latin typeface="Arial"/>
              </a:rPr>
              <a:t>Sharing our Insight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Jig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allery walk – 5 minutes /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** insert timer 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1B9D-729A-48D9-8930-AC46921A4F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Robin</cp:lastModifiedBy>
  <dcterms:modified xsi:type="dcterms:W3CDTF">2012-07-16T16:34:38Z</dcterms:modified>
  <cp:revision>28</cp:revision>
  <dc:subject/>
  <dc:title>&lt;Title&gt;</dc:title>
</cp:coreProperties>
</file>